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F5A-C67F-4509-8DF8-2845E39D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5BF6-31FC-4A31-B38A-F2610AEC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A73-A8DC-4702-9AC7-3DBFDCDD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248-644B-4432-B846-4DB7732E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2FE6-879D-49C7-986D-5BC9F010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892C-1A2C-4A2D-B5E3-F4974385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1DEA-A0DC-4F9C-81D2-BBAB2EA6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067F-9026-4C77-AB51-B1615F1B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C581-9464-49E9-8981-EB3AC397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F1AC-965A-4637-9006-C7640589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081E-1815-4496-AA55-B9AEA6EE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C69-2F9C-4607-BF36-0E32203F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8844-135A-4F70-84AC-C7AEF5D0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19E9-82E6-4895-AADA-28F91950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A349-2A46-478A-AEBC-F40BBB07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E8E9-F3B7-4382-B796-47CD0AE2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8613-BA0E-487A-9761-21777420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879-78E2-4642-A968-C9CF39DE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878-1A11-4AEF-8D1B-3C9AA885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2B8-BA12-46B4-B29D-760DA190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E72-EDDE-408B-9108-71972038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5D52-81DF-45EC-8F17-9F1A5B12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4AF-877C-40D6-9818-F74795CE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B472-CE13-4918-A1FD-5FB5912B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4021"/>
            </a:gs>
            <a:gs pos="100000">
              <a:srgbClr val="54643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b46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f29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5a2f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5a2f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572d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572d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42c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42c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512a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512a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f29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5a2f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5a2f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42c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572d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f29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f29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f29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414e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414e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323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323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68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4E94-6806-4755-9BF0-D1EEBC839B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4021"/>
            </a:gs>
            <a:gs pos="100000">
              <a:srgbClr val="54643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b46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f29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5a2f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5a2f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572d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572d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42c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42c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512a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512a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f29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5a2f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5a2f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42c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572d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f29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f29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f29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414e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414e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323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323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68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E916-61F6-4B1D-8FE3-470228BED6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athspa.ac.uk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vcc.edu/home/lshulman/relignIs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8226360" cy="121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68a"/>
                </a:solidFill>
                <a:latin typeface="Arial"/>
              </a:rPr>
              <a:t>So.  What is “religion”?</a:t>
            </a:r>
            <a:endParaRPr b="0" lang="en-US" sz="5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by Mrs. Dav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al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68a"/>
                </a:solidFill>
                <a:latin typeface="Arial"/>
              </a:rPr>
              <a:t>Assignment:</a:t>
            </a: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over the positions on relig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 - Pick a position that you feel either best suits your personal definition of what religion is or one that is most opposite of your personal defin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2 – Pick a position that you feel best describes how the majority of people in the world feel about religion.  This may be different from your own vie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each answer in a well thought out paragraph.  You’ll end up with two full paragraphs after you are done with the assignment.  For the record, a well thought out paragraph will NOT be a sentence. 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28191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68a"/>
                </a:solidFill>
                <a:latin typeface="Arial"/>
              </a:rPr>
              <a:t>According to Michael Young of Bath Spa University College in Bath, England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b2b68a"/>
                </a:solidFill>
                <a:latin typeface="Arial"/>
              </a:rPr>
              <a:t>“Religion is a share positing of the identity of and relationship between the world, humanity and the supernatural in terms of meaning assignment, value allocation and validation enactment.  A religion need not accept or believe in the supernatural, but it takes a position on it.  Likewise, some religions deny the reality or at least value of the world, but they still take a position on it.”</a:t>
            </a:r>
            <a:endParaRPr b="0" lang="en-US" sz="3200" spc="-1" strike="noStrike">
              <a:solidFill>
                <a:srgbClr val="b2b6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0c579"/>
                </a:solidFill>
                <a:uFillTx/>
                <a:latin typeface="Arial"/>
                <a:hlinkClick r:id="rId1"/>
              </a:rPr>
              <a:t>Bath Spa University Really Exists...so there!</a:t>
            </a:r>
            <a:endParaRPr b="0" lang="en-US" sz="4000" spc="-1" strike="noStrike">
              <a:solidFill>
                <a:srgbClr val="b2b6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68a"/>
                </a:solidFill>
                <a:latin typeface="Arial"/>
              </a:rPr>
              <a:t>Okay…</a:t>
            </a:r>
            <a:endParaRPr b="0" lang="en-US" sz="5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at does that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68a"/>
                </a:solidFill>
                <a:latin typeface="Arial"/>
              </a:rPr>
              <a:t>According to www.religioustolerance.org:</a:t>
            </a:r>
            <a:endParaRPr b="0" lang="en-US" sz="40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gion is any specific system of belief about deity, often involving rituals, a code of ethics, a philosophy of life, and a worldvie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68a"/>
                </a:solidFill>
                <a:latin typeface="Arial"/>
              </a:rPr>
              <a:t>Another way to answer the question is to find common factors among different religions.</a:t>
            </a:r>
            <a:endParaRPr b="0" lang="en-US" sz="4000" spc="-1" strike="noStrike">
              <a:solidFill>
                <a:srgbClr val="b2b6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68a"/>
                </a:solidFill>
                <a:latin typeface="Arial"/>
              </a:rPr>
              <a:t>Common Factors:</a:t>
            </a: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f in something sacred (gods, texts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ction between sacred and profane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tual acts focused on sacred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al code believed to have a sacred or supernatural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ally religious feelings (awe, guilt) which tend to surface in the presence of sacred objects and during the practice of rit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68a"/>
                </a:solidFill>
                <a:latin typeface="Arial"/>
              </a:rPr>
              <a:t>Factors (continued)</a:t>
            </a: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yer and other forms of communication with the superna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orldview or general picture of the world and how the individual fits into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 of one’s life based upon world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ocial group bound by the ab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80c579"/>
                </a:solidFill>
                <a:uFillTx/>
                <a:latin typeface="Arial"/>
                <a:hlinkClick r:id="rId1"/>
              </a:rPr>
              <a:t>What is religion?</a:t>
            </a: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9:09:16Z</dcterms:created>
  <dc:creator>DaviesL</dc:creator>
  <dc:description/>
  <dc:language>en-US</dc:language>
  <cp:lastModifiedBy>McFaddeR</cp:lastModifiedBy>
  <dcterms:modified xsi:type="dcterms:W3CDTF">2009-08-25T13:44:18Z</dcterms:modified>
  <cp:revision>5</cp:revision>
  <dc:subject/>
  <dc:title>So.  What is “religion”?</dc:title>
</cp:coreProperties>
</file>